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4A06-D739-4DD6-973F-A967B68ED9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0DF-ECE9-4F16-8053-080DCD135A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9099-7230-4B69-9BB2-7484AF013E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15D-C04C-45F9-975D-D27EE33D40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7E0A-79E1-45A7-A9E3-64BB46A0BC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285-CE31-4090-AF10-E856CADF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355-ACCF-438A-8DE6-FA22C61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53C-A2D6-402E-8E14-AD5904FE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E19-3FD8-402E-9F3B-A0D7C675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E894-ADC8-4360-8E5A-DAE27656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EFEF-076D-4894-B27F-88728488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87D0-1107-472C-BD0A-570F1AF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53B6-D4DF-4F34-8FEB-9BC33A6C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468-BD9C-4D27-8A76-6BFF22F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FFB7-09C5-4BE9-A686-7462E5D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26DA-FC62-4C89-A34F-0718220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1BF-DFFB-40B8-8D2D-7E7B14A6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47F1-F9B7-4C1E-A975-D6A101F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A8E3-1336-455B-9BB7-06AFFD6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5B1A-BFE0-498C-B4D4-70412195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489-082C-4224-90F4-0DBE4834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9B39-EC6F-4549-BE3D-78245AAF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0AD-F068-4777-939C-75EEFD3C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94E-468D-4223-A5E6-84839A1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CF7-E6D3-4579-9626-66E48CDB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89D-D623-463C-902B-6F0C7F8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5D3-8101-4E83-9C49-5EA4C83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1A9-5648-4153-BD71-677AC294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216-1AF2-4A85-8406-D40B298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1694-E7E2-475E-81A3-8E655368A1A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4440-8E9B-484D-837F-C174E2D9341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Global perspecives on coastal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oastal tourism trend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higher quality facilities/ser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marine and coastal recreation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ore aware of environmental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cern for responsibl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interest in nature and 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portunities to combine coastal and other eperiences through itineraries and multi-centred of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all-inclusive holi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cruis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enefits of coastal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tional revenue generation and international recei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cal jobs and prospe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pport for infrastructure and community fac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aising awareness of the need for conser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unding investment in environment and he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viding alternative, more sustainable community livelih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Negative impacts and challenges  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hysical destruction and loss of ame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ss of habitat and biod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restrial and marine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source consumption and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imited community engagement and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perty development patt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asonality and sensitiv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Ledbury</cp:lastModifiedBy>
  <cp:lastPrinted>2013-10-19T18:19:27Z</cp:lastPrinted>
  <dcterms:modified xsi:type="dcterms:W3CDTF">2013-10-21T07:48:12Z</dcterms:modified>
  <cp:revision>51</cp:revision>
  <dc:subject/>
  <dc:title>PowerPoint Presentation</dc:title>
</cp:coreProperties>
</file>